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B71-440C-48E6-AD0F-6C377394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872-78A5-4AE9-80E2-429E0AF4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810-ACBF-4E68-8F02-08C944C8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2E27-166A-4381-86D7-1073C479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C6D4-10C2-45AE-AC3A-6F64A15B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3786-CB1D-4BC7-896D-3E6B5522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B8EF-639B-4EB0-AEEA-FBE8CEE4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AA09-BC7C-4069-9E44-EE9F5017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96EC-CE95-43E2-8EB7-AAB7FF72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0B03-0B49-45F9-B60B-74E0EEFA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E2E2-0588-48C1-A174-F9933490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0D9-564C-4EF5-AB22-BFEB6913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20D0-F060-40E7-A828-BC2E2605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8D9C-6627-49F6-BF79-F2230163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A372-B0FB-4294-9661-75948263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A02E-C3BC-41B7-8796-560EBAE4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AE59-26B6-4342-84BA-DB5C96AF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1F8-029B-45CA-B815-DB07DDAF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65F-D9D6-475F-AF95-D8A9C0F4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604-D4D9-4F2E-8AD3-D9269445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D1A-1F1E-4806-8DF1-DBE7DA1F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316-6209-4680-8B3C-D6E0BF10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659-A68A-464F-8819-43256293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F16-4310-41E3-9063-6148BD37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A356-66ED-48D1-99A1-0A538AAEEC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100A-7DDC-4C7D-AF90-AD2934F727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Gungsuh"/>
              </a:rPr>
              <a:t>Translation Blo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ungsuh"/>
              </a:rPr>
              <a:t>By: Mario Escob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ungsuh"/>
              </a:rPr>
              <a:t>Andrea Portil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ungsuh"/>
              </a:rPr>
              <a:t>and Adriana Viñ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604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9001080" cy="3633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52640" y="1599840"/>
            <a:ext cx="4033800" cy="2173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6524280"/>
            <a:ext cx="82296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129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9325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8:30:47Z</dcterms:created>
  <dc:creator>viñas</dc:creator>
  <dc:description/>
  <dc:language>en-US</dc:language>
  <cp:lastModifiedBy>viñas</cp:lastModifiedBy>
  <dcterms:modified xsi:type="dcterms:W3CDTF">2011-09-27T18:57:53Z</dcterms:modified>
  <cp:revision>3</cp:revision>
  <dc:subject/>
  <dc:title>Translation Blogs</dc:title>
</cp:coreProperties>
</file>